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57233-82D8-4AA1-B995-094A9EC43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E8743-F442-4D03-BB82-11998E455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57371-16A1-40C6-A8B5-4A38B9D2D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935F6-C099-41EC-8514-316E40029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174C0-2C47-4C9E-9551-108C9DBB1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9418F-DD2B-43BD-AAD6-5AA0741F7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64E3C-2785-40EB-99DF-6C4A3F63E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35AD1-F64F-4C50-A3ED-A092941EB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58A63-1005-423D-B979-735330C43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39A57-EBFC-40F5-9C76-CAB8F5CF1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AEA11-B28B-4598-BEEB-4834245BE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A779B-EA37-4ED0-8413-B4177F50B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7B222-0FFE-436D-B128-BA20D35BE8E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60280"/>
            <a:ext cx="7772400" cy="34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omic"/>
              </a:rPr>
              <a:t>Termes de référence de </a:t>
            </a:r>
            <a:r>
              <a:rPr b="1" lang="fr-FR" sz="4400" spc="-1" strike="noStrike">
                <a:solidFill>
                  <a:srgbClr val="000000"/>
                </a:solidFill>
                <a:latin typeface="Baskerville Old Face"/>
              </a:rPr>
              <a:t>l’atelier technique sur le choix du panier de soins à couvrir par l’Assurance maladie universelle</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684360" y="3789360"/>
            <a:ext cx="7920000" cy="25192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898989"/>
                </a:solidFill>
                <a:latin typeface="Calibri"/>
              </a:rPr>
              <a:t>Ouagadougou 09 et 10 juin </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Présenté par: </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d0d0d"/>
                </a:solidFill>
                <a:latin typeface="Calibri"/>
              </a:rPr>
              <a:t>SANOU Alphonse</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Chef de département des études, des procédures et des opérations techniques</a:t>
            </a: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a:t>
            </a:r>
            <a:endParaRPr b="0" lang="en-US" sz="4000" spc="-1" strike="noStrike">
              <a:solidFill>
                <a:srgbClr val="000000"/>
              </a:solidFill>
              <a:latin typeface="Calibri"/>
            </a:endParaRPr>
          </a:p>
        </p:txBody>
      </p:sp>
      <p:sp>
        <p:nvSpPr>
          <p:cNvPr id="44" name="PlaceHolder 2"/>
          <p:cNvSpPr>
            <a:spLocks noGrp="1"/>
          </p:cNvSpPr>
          <p:nvPr>
            <p:ph type="subTitle"/>
          </p:nvPr>
        </p:nvSpPr>
        <p:spPr>
          <a:xfrm>
            <a:off x="395280" y="765000"/>
            <a:ext cx="8137440" cy="583272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Gouvernement s’est engagé à mettre en place un système national d’assurance maladie obligatoire pour tou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but d’étendre la protection sociale et favoriser l’accès des populations aux soins de santé.</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lusieurs étapes ont marqué c processus: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réalisation des études de faisabilité,</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choix d’options stratégique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tenue des concertations régionales et sectorielles avec les différentes composantes de la population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 qui a permis de finaliser le projet de loi qui a été approuvé par le conseil des ministres en sa séance du 16 avril 2014.</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0" lang="fr-FR" sz="2200" spc="-1" strike="noStrike">
                <a:solidFill>
                  <a:srgbClr val="000000"/>
                </a:solidFill>
                <a:latin typeface="Calibri"/>
              </a:rPr>
              <a:t>Les événements récents (Octobre 2015) ont rendu caduques la décision du Conseil des Ministre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404640"/>
            <a:ext cx="7772400" cy="57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6" name="PlaceHolder 2"/>
          <p:cNvSpPr>
            <a:spLocks noGrp="1"/>
          </p:cNvSpPr>
          <p:nvPr>
            <p:ph type="subTitle"/>
          </p:nvPr>
        </p:nvSpPr>
        <p:spPr>
          <a:xfrm>
            <a:off x="395280" y="1267920"/>
            <a:ext cx="8137440" cy="475308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Pa conséquence, le Projet de loi avait été à nouveau sur la table du Conseil des Ministres (Février 2015). </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Ce projet de loi sur le régime AMU doit être soutenu par des projets de Décrets qui donnent une compréhension suffisante des conditions de sa mise en œuvre. En particulier, le panier de soins, son coût et son financement, doivent être suffisamment cernés.</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88640"/>
            <a:ext cx="77724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8" name="PlaceHolder 2"/>
          <p:cNvSpPr>
            <a:spLocks noGrp="1"/>
          </p:cNvSpPr>
          <p:nvPr>
            <p:ph type="subTitle"/>
          </p:nvPr>
        </p:nvSpPr>
        <p:spPr>
          <a:xfrm>
            <a:off x="323640" y="1052280"/>
            <a:ext cx="8569080" cy="532908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ans ce cadre le ministère de la santé a proposé des scénarii de panier de soins à couvrir ainsi que les modalités de leur mise en œuvre .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scénarii de panier de soins, l’évaluation de leurs coûts ont fait l’objet d’échanges et d’amendements au cours de deux ateliers en 2014.</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question du financement du RAMU a également fait l’objet de nombreuses études et concertation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questions peuvent désormais déboucher sur un consensus des parties prenantes au niveau technique</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t dans cette optique que le présent atelier est organisé et a cet effet le MFPTSS a obtenu un appui financier (OMS) en vue d’organiser un atelier sur ces points intimement lié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25992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a:t>
            </a:r>
            <a:endParaRPr b="0" lang="en-US" sz="4000" spc="-1" strike="noStrike">
              <a:solidFill>
                <a:srgbClr val="000000"/>
              </a:solidFill>
              <a:latin typeface="Calibri"/>
            </a:endParaRPr>
          </a:p>
        </p:txBody>
      </p:sp>
      <p:sp>
        <p:nvSpPr>
          <p:cNvPr id="50" name="PlaceHolder 2"/>
          <p:cNvSpPr>
            <a:spLocks noGrp="1"/>
          </p:cNvSpPr>
          <p:nvPr>
            <p:ph type="subTitle"/>
          </p:nvPr>
        </p:nvSpPr>
        <p:spPr>
          <a:xfrm>
            <a:off x="250560" y="1125360"/>
            <a:ext cx="8713800" cy="3959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objectif global de l’atelier est de permettre aux acteurs de s’accorder sur certains paramètres techniques, des propositions alternatives, voire pour dégager une option préférée (qui sont des éléments fondamentaux soutenant le Projet de loi sur le RAMU).</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3336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 spécifiques</a:t>
            </a:r>
            <a:endParaRPr b="0" lang="en-US" sz="4000" spc="-1" strike="noStrike">
              <a:solidFill>
                <a:srgbClr val="000000"/>
              </a:solidFill>
              <a:latin typeface="Calibri"/>
            </a:endParaRPr>
          </a:p>
        </p:txBody>
      </p:sp>
      <p:sp>
        <p:nvSpPr>
          <p:cNvPr id="52" name="PlaceHolder 2"/>
          <p:cNvSpPr>
            <a:spLocks noGrp="1"/>
          </p:cNvSpPr>
          <p:nvPr>
            <p:ph type="subTitle"/>
          </p:nvPr>
        </p:nvSpPr>
        <p:spPr>
          <a:xfrm>
            <a:off x="250920" y="981000"/>
            <a:ext cx="8424720" cy="5400720"/>
          </a:xfrm>
          <a:prstGeom prst="rect">
            <a:avLst/>
          </a:prstGeom>
          <a:noFill/>
          <a:ln w="0">
            <a:noFill/>
          </a:ln>
        </p:spPr>
        <p:txBody>
          <a:bodyPr anchor="t">
            <a:noAutofit/>
          </a:bodyPr>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tager une même idée de la direction prise par le RAMU avec le projet de Loi</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maximum de consensus sur les modalités techniques parmi les plus importantes (et qui seront définies dans un second temps avec la préparation des Décrets d’application)</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poser des objectifs de couverture de la population en tenant compte des conditions de mise en œuvre et des capacités d’appui financier de l’Etat </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consensus ou, à défaut, des options alternatives avec les arguments les soutenant, pour ce qui concerne les subventions partielles (secteur informel) et totales (pauvres, enfants de moins de 5 ans) par catégorie de population</a:t>
            </a:r>
            <a:endParaRPr b="0" lang="en-US" sz="2000" spc="-1" strike="noStrike">
              <a:solidFill>
                <a:srgbClr val="000000"/>
              </a:solidFill>
              <a:latin typeface="Calibri"/>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Les résultats attendus</a:t>
            </a:r>
            <a:endParaRPr b="0" lang="en-US" sz="4000" spc="-1" strike="noStrike">
              <a:solidFill>
                <a:srgbClr val="000000"/>
              </a:solidFill>
              <a:latin typeface="Calibri"/>
            </a:endParaRPr>
          </a:p>
        </p:txBody>
      </p:sp>
      <p:sp>
        <p:nvSpPr>
          <p:cNvPr id="54" name="PlaceHolder 2"/>
          <p:cNvSpPr>
            <a:spLocks noGrp="1"/>
          </p:cNvSpPr>
          <p:nvPr>
            <p:ph type="subTitle"/>
          </p:nvPr>
        </p:nvSpPr>
        <p:spPr>
          <a:xfrm>
            <a:off x="250920" y="1052280"/>
            <a:ext cx="8424720" cy="5545080"/>
          </a:xfrm>
          <a:prstGeom prst="rect">
            <a:avLst/>
          </a:prstGeom>
          <a:noFill/>
          <a:ln w="0">
            <a:noFill/>
          </a:ln>
        </p:spPr>
        <p:txBody>
          <a:bodyPr anchor="t">
            <a:no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le panier de soins de démarrage du RAMU</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rythme et un objectif de couverture du secteur informel cotisant (non pauvre) </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montant de cotisation pour le secteur informel non pauvre.</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choix de couverture des populations subventionnées à 100%  (quelle catégories de population catégorie et à quel % de couverture) ce qui veut qu’il faire des arbitrages sur la base des cadrages qui seront présentés, et d’une hypothèse de soutien financier global de l’Etat.</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Déroulement des travaux</a:t>
            </a:r>
            <a:endParaRPr b="0" lang="en-US" sz="4400" spc="-1" strike="noStrike">
              <a:solidFill>
                <a:srgbClr val="000000"/>
              </a:solidFill>
              <a:latin typeface="Calibri"/>
            </a:endParaRPr>
          </a:p>
        </p:txBody>
      </p:sp>
      <p:sp>
        <p:nvSpPr>
          <p:cNvPr id="56" name="PlaceHolder 2"/>
          <p:cNvSpPr>
            <a:spLocks noGrp="1"/>
          </p:cNvSpPr>
          <p:nvPr>
            <p:ph type="subTitle"/>
          </p:nvPr>
        </p:nvSpPr>
        <p:spPr>
          <a:xfrm>
            <a:off x="539280" y="2133360"/>
            <a:ext cx="7704360" cy="28796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telier regroupe une cinquantaine de participants et les travaux se déroulent sur 2 jours les 09 et 10 juin 2015 conformément au programme.</a:t>
            </a:r>
            <a:endParaRPr b="0" lang="en-US" sz="3200" spc="-1" strike="noStrike">
              <a:solidFill>
                <a:srgbClr val="000000"/>
              </a:solidFill>
              <a:latin typeface="Calibri"/>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8T17:20:08Z</dcterms:created>
  <dc:creator>alphonse</dc:creator>
  <dc:description/>
  <dc:language>en-US</dc:language>
  <cp:lastModifiedBy>SANOU</cp:lastModifiedBy>
  <dcterms:modified xsi:type="dcterms:W3CDTF">2015-06-09T07:51:05Z</dcterms:modified>
  <cp:revision>18</cp:revision>
  <dc:subject/>
  <dc:title>résume des termes de références</dc:title>
</cp:coreProperties>
</file>